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727D-64ED-4701-BA3C-D501BB34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68B-BD09-43F7-A870-15917204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0D3E-ABDD-4B9C-BBDC-D7E550E9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296-73B4-41CF-8CD0-EA65CC69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FD4-98BD-4833-8A37-9B01C636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7D2-98CB-4526-8C44-790DBF2D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13D2-F4BB-4C2D-8C00-D88F6C1E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E22-56B4-4CF6-BDEE-C8E8C23C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7188-2B4A-43F1-AB02-0C8797AB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689A-67E2-42FD-88DA-0A493D20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B20-91F4-49C5-8DFF-72AAD216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228-BFB9-4916-A4DC-F6541A24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1074-6D0C-4C64-A40C-E3559AEC01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riters Must Follow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ules When Adding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alogue To Their Writ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478640" y="605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rade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8668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re is always a period or comma 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at the end of the dialogue t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25142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m!  I want you to clean the kitchen,” yelled my mom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Do I have to?” I aske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Yes,” she replie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“or else you’re not going to Jenny’s.”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Okay,” I sighe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“I’ll be right there.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8862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Using one of these books or a book of your choice as your guide, add some dialogue to your own narrative pie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All the books at the table have dialogue in them.  Look through the books to remind yourself of the rules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32076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ad the dialogue below.  This passage has perfect dialogue punctuation and formatting rules.  As you read through, note how the passage is punctu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m!  I want you to clean the kitchen,” yelled my mom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Do I have to?” I asked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Yes,” she replied, “or else you’re not going to Jenny’s.”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Okay,” I sighed.  “I’ll be right there.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382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Note that there are quotation marks around the parts that are spok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236232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m!  I want you to clean the kitchen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elled my mom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I have to?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 asked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e replied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else you’re not going to Jenny’s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kay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 sighed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’ll be right there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56196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first letter of each 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poken part is capitaliz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!  I want you to clean the kitchen,” yelled my mom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I have to?” I asked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,” she replied, “or else you’re not going to Jenny’s.”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y,” I sighed. 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ll be right there.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4572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re are dialogue tags 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at explain who is talking each 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ime the speaker chang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2438280"/>
            <a:ext cx="7467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m!  I want you to clean the kitchen,”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elled my m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Do I have to?”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 ask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Yes,”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he repli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“or else you’re not going to Jenny’s.”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Okay,”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 sigh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“I’ll be right there.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7621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dialogue tags can go before, after, or in the middle of the dialogu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438280"/>
            <a:ext cx="7467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m!  I want you to clean the kitchen,”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elled my m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Do I have to?”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 ask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Yes,”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he repli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“or else you’re not going to Jenny’s.”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Okay,”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 sigh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“I’ll be right there.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5335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first letter of the dialogue tag is 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not capitalized unless it is a name 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r at the beginning of a sent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5142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m!  I want you to clean the kitchen,”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led my mom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Do I have to?”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ked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Yes,”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eplied, “or else you’re not going to Jenny’s.”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Okay,”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ghed.  “I’ll be right there.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6858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A new paragraph is started 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after the speaker chang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2438280"/>
            <a:ext cx="7467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m!  I want you to clean the kitchen,” yelled my mom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Do I have to?” I asked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Yes,” she replied, “or else you’re not going to Jenny’s.”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Okay,” I sighed.  “I’ll be right there.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45744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42670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56386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3808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re’s always punctuation (a comma, period, or question mark) at the end of the spoken parts.  It goes inside the quotation ma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25142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m!  I want you to clean the kitche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yelled my mom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Do I have t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I asked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Ye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she replied, “or else you’re not going to Jenny’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Oka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I sighed.  “I’ll be right ther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6:55:01Z</dcterms:created>
  <dc:creator>AAPS</dc:creator>
  <dc:description/>
  <dc:language>en-US</dc:language>
  <cp:lastModifiedBy>Chuck Hatt</cp:lastModifiedBy>
  <dcterms:modified xsi:type="dcterms:W3CDTF">2005-08-25T02:09:45Z</dcterms:modified>
  <cp:revision>14</cp:revision>
  <dc:subject/>
  <dc:title>Readers use dialogue to bring meaning to the text</dc:title>
</cp:coreProperties>
</file>